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89E-20AA-4CFE-8946-7B4A59AB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C37-F58C-4D9B-BD2E-28F81D5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139-2399-4596-98A1-0AF73FB6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1DC-04CD-44E4-AC39-44FA5653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3AF7-09CF-400F-97F1-05B85609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EB4-3451-4328-8C32-CF4FF1D2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01F1-F6F3-494B-A0DB-5B3EBD6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0ABF-BED7-48C1-9247-AB395DBC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9AC-BD34-4124-A385-5744E210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2D30-F885-41D3-94A4-C23C420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27A-F434-4425-8A80-F07A682A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23E-646A-4909-B3FC-6193BE7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6EFE-E964-4F9E-93E9-FFFD12A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554-07F2-47D2-B502-C247221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3EAD-B58A-46EF-B60F-41443E0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59F5-97EA-4B06-BFA9-E997BBED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BBC4-73A8-41A3-AE0D-EF6A4255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676-FA1E-4E54-BAC4-406C7AA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BCF-C4A3-43D7-A1B5-5135FD32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231-2C55-4481-92D8-A9AF3892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45A-53FE-4279-9A9E-81841669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B81-8AB4-4189-AEF9-40BA76C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AC6-D86D-4978-92BE-0988E17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C08-F8B7-4834-8BC2-1A989E7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A70C-E9AF-49DC-AC58-34AED76797B0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17B-CFD3-436A-9517-5A4674D43369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2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title animations, fonts, and transitions have enhanced your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e have observed how title sequences, and transitions can add to or subtract from the overall impact of a movie.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we customize our movie using titles, transitions, and video effect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do we import digital images into i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ok and feel of our movie can be affected by the title sequence and transitions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s lesson will focus on the following skill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opening and closing title sequenc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still imag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dding transitions between scene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images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digital camer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 (www.pics4learning.org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Zapf Dingba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canning a digital picture into the computer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w can titles and transitions enhance a movie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mporting digital pictures into iMovi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a title sequ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reating transit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lesson 2 for specific dire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212164"/>
                </a:solidFill>
                <a:latin typeface="Lucida Grande"/>
              </a:rPr>
              <a:t>Take the next 30 minutes to import still images into iMovie. Add titles and transitions to your movies. After 30 minutes we will come back together and shar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Connect the digital still camera to the computer (if available)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Download and save the sample digital pictures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iMovie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titles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7:07:52Z</dcterms:modified>
  <cp:revision>30</cp:revision>
  <dc:subject/>
  <dc:title>Workshop Title</dc:title>
</cp:coreProperties>
</file>